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4FB1-DCB0-4B13-9531-388D4924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FC1-55BB-440C-864A-8621E80D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9B88-C4BB-4046-A782-82FBDA50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213-863A-471E-92C2-546EC98B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BB8F-3C26-4F04-9FED-4E24BC94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2AC9-B6CC-4352-B46D-85756966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4CD5-0CF4-4DD6-B9E2-7962E062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2F99-AFDE-4175-AB13-385B35F3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6691-2054-4741-B609-E04F8939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60B2-6DFA-4440-A2FF-CC03BCF2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FC1D-739C-4837-AC34-9447304E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68F4-65A1-431D-998F-AE49CB96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025F-9F22-4367-A4C7-2052F662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7448-797F-41CD-AAF5-41392AF0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F6C9-6955-40C6-B848-E7152348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5B8C-E551-4E19-A722-33CA4FB5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FB53-7AD5-4307-810A-211C3C88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A426-EE35-4ADD-94DD-CD750804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F52-CCAA-422D-A6BE-DFBA0E58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1E7E-35A7-468D-B86E-BDB62340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00C-90A2-43AF-91E6-C9D4B44D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F4EA-1C70-4F4C-8CED-1458FC17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F8B9-C4EF-4FC0-A7B6-DE4121B3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D9A7-DB74-4160-97C3-439C1BB1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1E27-6FE9-4D82-A194-0180E3A9702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0BBF-D6B5-4B24-BA43-D14C40D2C73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palomeich.blogia.com/upload/20070121223551-devoir.jpg&amp;imgrefurl=http://palomeich.blogia.com/temas/varios.php&amp;usg=__6MjAoEW9wM8Kz9XRHzdQOFbdVQc=&amp;h=455&amp;w=375&amp;sz=26&amp;hl=es&amp;start=6&amp;um=1&amp;tbnid=m40DUSoqhmQ1kM:&amp;tbnh=128&amp;tbnw=105&amp;prev=/images%3Fq%3Dalumnos%2Bhaciendo%2Bexamen%26hl%3Des%26rlz%3D1W1ADSA_es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alvarez.files.wordpress.com/2007/10/ruido.jpg&amp;imgrefurl=http://walvarez.wordpress.com/2007/10/11/ruido/&amp;usg=__9PwayCR48NMeQ-rCrO1qpUE5tsA=&amp;h=1279&amp;w=1652&amp;sz=417&amp;hl=es&amp;start=1&amp;tbnid=jP_H6Q8-j4fKrM:&amp;tbnh=116&amp;tbnw=150&amp;prev=/images%3Fq%3Druido%26imgsz%3Dl%26gbv%3D2%26hl%3Des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es/imgres?imgurl=http://cdecomunidaddemadrid.files.wordpress.com/2009/05/inversiones1.jpg&amp;imgrefurl=http://cdecomunidaddemadrid.wordpress.com/2009/05/04/control-a-las-inversiones-arriesgadas/&amp;usg=__lrILPwGcJNbKmCdzzpR7TLYLb9g=&amp;h=3600&amp;w=5400&amp;sz=1396&amp;hl=es&amp;start=12&amp;tbnid=i_a7XrUvE-WXYM:&amp;tbnh=100&amp;tbnw=150&amp;prev=/images%3Fq%3Dcrisis%2Becon%25C3%25B3mica%26imgsz%3D15mp%26imgtbs%3Dz%26gbv%3D2%26hl%3Des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901440"/>
            <a:ext cx="7772400" cy="270468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12600">
            <a:solidFill>
              <a:srgbClr val="eaeaea"/>
            </a:solidFill>
            <a:round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  <p:txBody>
          <a:bodyPr lIns="96120" rIns="9612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20070121223551-devoi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005360"/>
            <a:ext cx="13543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¿Cómo debe s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Calibri"/>
              </a:rPr>
              <a:t>Breve (aproximadamente un 20% del texto completo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Calibri"/>
              </a:rPr>
              <a:t>Solo con ideas generales (prescindir de las particularidad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Calibri"/>
              </a:rPr>
              <a:t>Ordenado: debe seguir el orden de las ideas del tex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Calibri"/>
              </a:rPr>
              <a:t>Debe presentar el mismo estilo del autor y su misma forma de discurso (exposición, narración…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Calibri"/>
              </a:rPr>
              <a:t>No copiar pasajes literales (redacción origin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Calibri"/>
              </a:rPr>
              <a:t>A ser posible, en un solo párraf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¿Resumen por párrafo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523880" y="4907520"/>
            <a:ext cx="6916680" cy="1008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Pero pueden utilizarse varios párraf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 si la complejidad conceptual o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estructural del texto original así lo exigen.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1522440" y="1971720"/>
            <a:ext cx="1785960" cy="2454120"/>
            <a:chOff x="1522440" y="1971720"/>
            <a:chExt cx="1785960" cy="2454120"/>
          </a:xfrm>
        </p:grpSpPr>
        <p:sp>
          <p:nvSpPr>
            <p:cNvPr id="162" name="AutoShape 5"/>
            <p:cNvSpPr/>
            <p:nvPr/>
          </p:nvSpPr>
          <p:spPr>
            <a:xfrm>
              <a:off x="1522440" y="1971720"/>
              <a:ext cx="1785960" cy="2454120"/>
            </a:xfrm>
            <a:prstGeom prst="foldedCorner">
              <a:avLst>
                <a:gd name="adj" fmla="val 125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3" name="Group 6"/>
            <p:cNvGrpSpPr/>
            <p:nvPr/>
          </p:nvGrpSpPr>
          <p:grpSpPr>
            <a:xfrm>
              <a:off x="1675080" y="2333520"/>
              <a:ext cx="1485000" cy="1842480"/>
              <a:chOff x="1675080" y="2333520"/>
              <a:chExt cx="1485000" cy="1842480"/>
            </a:xfrm>
          </p:grpSpPr>
          <p:grpSp>
            <p:nvGrpSpPr>
              <p:cNvPr id="164" name="Group 7"/>
              <p:cNvGrpSpPr/>
              <p:nvPr/>
            </p:nvGrpSpPr>
            <p:grpSpPr>
              <a:xfrm>
                <a:off x="1675080" y="2333520"/>
                <a:ext cx="1485000" cy="719280"/>
                <a:chOff x="1675080" y="2333520"/>
                <a:chExt cx="1485000" cy="719280"/>
              </a:xfrm>
            </p:grpSpPr>
            <p:sp>
              <p:nvSpPr>
                <p:cNvPr id="165" name="Line 8"/>
                <p:cNvSpPr/>
                <p:nvPr/>
              </p:nvSpPr>
              <p:spPr>
                <a:xfrm>
                  <a:off x="1675080" y="3052800"/>
                  <a:ext cx="989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6" name="Line 9"/>
                <p:cNvSpPr/>
                <p:nvPr/>
              </p:nvSpPr>
              <p:spPr>
                <a:xfrm>
                  <a:off x="1675080" y="23983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7" name="Line 10"/>
                <p:cNvSpPr/>
                <p:nvPr/>
              </p:nvSpPr>
              <p:spPr>
                <a:xfrm>
                  <a:off x="1675080" y="24642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8" name="Line 11"/>
                <p:cNvSpPr/>
                <p:nvPr/>
              </p:nvSpPr>
              <p:spPr>
                <a:xfrm>
                  <a:off x="1675080" y="25290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Line 12"/>
                <p:cNvSpPr/>
                <p:nvPr/>
              </p:nvSpPr>
              <p:spPr>
                <a:xfrm>
                  <a:off x="1873080" y="2333520"/>
                  <a:ext cx="1287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0" name="Line 13"/>
                <p:cNvSpPr/>
                <p:nvPr/>
              </p:nvSpPr>
              <p:spPr>
                <a:xfrm>
                  <a:off x="1675080" y="259488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Line 14"/>
                <p:cNvSpPr/>
                <p:nvPr/>
              </p:nvSpPr>
              <p:spPr>
                <a:xfrm>
                  <a:off x="1675080" y="26593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Line 15"/>
                <p:cNvSpPr/>
                <p:nvPr/>
              </p:nvSpPr>
              <p:spPr>
                <a:xfrm>
                  <a:off x="1675080" y="27252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3" name="Line 16"/>
                <p:cNvSpPr/>
                <p:nvPr/>
              </p:nvSpPr>
              <p:spPr>
                <a:xfrm>
                  <a:off x="1675080" y="27900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4" name="Line 17"/>
                <p:cNvSpPr/>
                <p:nvPr/>
              </p:nvSpPr>
              <p:spPr>
                <a:xfrm>
                  <a:off x="1675080" y="285588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Line 18"/>
                <p:cNvSpPr/>
                <p:nvPr/>
              </p:nvSpPr>
              <p:spPr>
                <a:xfrm>
                  <a:off x="1675080" y="292068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Line 19"/>
                <p:cNvSpPr/>
                <p:nvPr/>
              </p:nvSpPr>
              <p:spPr>
                <a:xfrm>
                  <a:off x="1675080" y="29869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7" name="Group 20"/>
              <p:cNvGrpSpPr/>
              <p:nvPr/>
            </p:nvGrpSpPr>
            <p:grpSpPr>
              <a:xfrm>
                <a:off x="1675080" y="3718440"/>
                <a:ext cx="1485000" cy="457560"/>
                <a:chOff x="1675080" y="3718440"/>
                <a:chExt cx="1485000" cy="457560"/>
              </a:xfrm>
            </p:grpSpPr>
            <p:sp>
              <p:nvSpPr>
                <p:cNvPr id="178" name="Line 21"/>
                <p:cNvSpPr/>
                <p:nvPr/>
              </p:nvSpPr>
              <p:spPr>
                <a:xfrm>
                  <a:off x="1675080" y="378288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Line 22"/>
                <p:cNvSpPr/>
                <p:nvPr/>
              </p:nvSpPr>
              <p:spPr>
                <a:xfrm>
                  <a:off x="1675080" y="38491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Line 23"/>
                <p:cNvSpPr/>
                <p:nvPr/>
              </p:nvSpPr>
              <p:spPr>
                <a:xfrm>
                  <a:off x="1675080" y="39139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" name="Line 24"/>
                <p:cNvSpPr/>
                <p:nvPr/>
              </p:nvSpPr>
              <p:spPr>
                <a:xfrm>
                  <a:off x="1872720" y="3718440"/>
                  <a:ext cx="1287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2" name="Line 25"/>
                <p:cNvSpPr/>
                <p:nvPr/>
              </p:nvSpPr>
              <p:spPr>
                <a:xfrm>
                  <a:off x="1675080" y="39798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Line 26"/>
                <p:cNvSpPr/>
                <p:nvPr/>
              </p:nvSpPr>
              <p:spPr>
                <a:xfrm>
                  <a:off x="1675080" y="404424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Line 27"/>
                <p:cNvSpPr/>
                <p:nvPr/>
              </p:nvSpPr>
              <p:spPr>
                <a:xfrm>
                  <a:off x="1675080" y="411048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" name="Line 28"/>
                <p:cNvSpPr/>
                <p:nvPr/>
              </p:nvSpPr>
              <p:spPr>
                <a:xfrm>
                  <a:off x="1675080" y="4174920"/>
                  <a:ext cx="126936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6" name="Group 29"/>
              <p:cNvGrpSpPr/>
              <p:nvPr/>
            </p:nvGrpSpPr>
            <p:grpSpPr>
              <a:xfrm>
                <a:off x="1675080" y="3164040"/>
                <a:ext cx="1485000" cy="391680"/>
                <a:chOff x="1675080" y="3164040"/>
                <a:chExt cx="1485000" cy="391680"/>
              </a:xfrm>
            </p:grpSpPr>
            <p:sp>
              <p:nvSpPr>
                <p:cNvPr id="187" name="Line 30"/>
                <p:cNvSpPr/>
                <p:nvPr/>
              </p:nvSpPr>
              <p:spPr>
                <a:xfrm>
                  <a:off x="1675080" y="322884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8" name="Line 31"/>
                <p:cNvSpPr/>
                <p:nvPr/>
              </p:nvSpPr>
              <p:spPr>
                <a:xfrm>
                  <a:off x="1675080" y="32947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" name="Line 32"/>
                <p:cNvSpPr/>
                <p:nvPr/>
              </p:nvSpPr>
              <p:spPr>
                <a:xfrm>
                  <a:off x="1675080" y="33595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Line 33"/>
                <p:cNvSpPr/>
                <p:nvPr/>
              </p:nvSpPr>
              <p:spPr>
                <a:xfrm>
                  <a:off x="1872720" y="3164040"/>
                  <a:ext cx="1287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" name="Line 34"/>
                <p:cNvSpPr/>
                <p:nvPr/>
              </p:nvSpPr>
              <p:spPr>
                <a:xfrm>
                  <a:off x="1675080" y="34254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" name="Line 35"/>
                <p:cNvSpPr/>
                <p:nvPr/>
              </p:nvSpPr>
              <p:spPr>
                <a:xfrm>
                  <a:off x="1675080" y="348984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Line 36"/>
                <p:cNvSpPr/>
                <p:nvPr/>
              </p:nvSpPr>
              <p:spPr>
                <a:xfrm flipV="1">
                  <a:off x="1675080" y="3552120"/>
                  <a:ext cx="295920" cy="3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4" name="Text Box 37"/>
            <p:cNvSpPr/>
            <p:nvPr/>
          </p:nvSpPr>
          <p:spPr>
            <a:xfrm>
              <a:off x="1803240" y="2046240"/>
              <a:ext cx="11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Elephant"/>
                  <a:ea typeface="Arial"/>
                </a:rPr>
                <a:t>Texto original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38"/>
          <p:cNvGrpSpPr/>
          <p:nvPr/>
        </p:nvGrpSpPr>
        <p:grpSpPr>
          <a:xfrm>
            <a:off x="6657840" y="1971720"/>
            <a:ext cx="1785960" cy="2454120"/>
            <a:chOff x="6657840" y="1971720"/>
            <a:chExt cx="1785960" cy="2454120"/>
          </a:xfrm>
        </p:grpSpPr>
        <p:sp>
          <p:nvSpPr>
            <p:cNvPr id="196" name="AutoShape 39"/>
            <p:cNvSpPr/>
            <p:nvPr/>
          </p:nvSpPr>
          <p:spPr>
            <a:xfrm>
              <a:off x="6657840" y="1971720"/>
              <a:ext cx="1785960" cy="2454120"/>
            </a:xfrm>
            <a:prstGeom prst="foldedCorner">
              <a:avLst>
                <a:gd name="adj" fmla="val 125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7" name="Group 40"/>
            <p:cNvGrpSpPr/>
            <p:nvPr/>
          </p:nvGrpSpPr>
          <p:grpSpPr>
            <a:xfrm>
              <a:off x="6807240" y="2533680"/>
              <a:ext cx="1485720" cy="652320"/>
              <a:chOff x="6807240" y="2533680"/>
              <a:chExt cx="1485720" cy="652320"/>
            </a:xfrm>
          </p:grpSpPr>
          <p:sp>
            <p:nvSpPr>
              <p:cNvPr id="198" name="Line 41"/>
              <p:cNvSpPr/>
              <p:nvPr/>
            </p:nvSpPr>
            <p:spPr>
              <a:xfrm>
                <a:off x="6807240" y="259884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Line 42"/>
              <p:cNvSpPr/>
              <p:nvPr/>
            </p:nvSpPr>
            <p:spPr>
              <a:xfrm>
                <a:off x="6807240" y="266400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Line 43"/>
              <p:cNvSpPr/>
              <p:nvPr/>
            </p:nvSpPr>
            <p:spPr>
              <a:xfrm>
                <a:off x="6807240" y="272880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Line 44"/>
              <p:cNvSpPr/>
              <p:nvPr/>
            </p:nvSpPr>
            <p:spPr>
              <a:xfrm>
                <a:off x="7005600" y="2533680"/>
                <a:ext cx="1287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Line 45"/>
              <p:cNvSpPr/>
              <p:nvPr/>
            </p:nvSpPr>
            <p:spPr>
              <a:xfrm>
                <a:off x="6807240" y="279576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Line 46"/>
              <p:cNvSpPr/>
              <p:nvPr/>
            </p:nvSpPr>
            <p:spPr>
              <a:xfrm>
                <a:off x="6807240" y="285912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Line 47"/>
              <p:cNvSpPr/>
              <p:nvPr/>
            </p:nvSpPr>
            <p:spPr>
              <a:xfrm>
                <a:off x="6807240" y="292572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Line 48"/>
              <p:cNvSpPr/>
              <p:nvPr/>
            </p:nvSpPr>
            <p:spPr>
              <a:xfrm>
                <a:off x="6807240" y="299088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Line 49"/>
              <p:cNvSpPr/>
              <p:nvPr/>
            </p:nvSpPr>
            <p:spPr>
              <a:xfrm>
                <a:off x="6807240" y="305604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Line 50"/>
              <p:cNvSpPr/>
              <p:nvPr/>
            </p:nvSpPr>
            <p:spPr>
              <a:xfrm>
                <a:off x="6807240" y="312120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Line 51"/>
              <p:cNvSpPr/>
              <p:nvPr/>
            </p:nvSpPr>
            <p:spPr>
              <a:xfrm>
                <a:off x="6807240" y="3186000"/>
                <a:ext cx="555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Text Box 52"/>
            <p:cNvSpPr/>
            <p:nvPr/>
          </p:nvSpPr>
          <p:spPr>
            <a:xfrm>
              <a:off x="6914880" y="216684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Rage Italic"/>
                  <a:ea typeface="Arial"/>
                </a:rPr>
                <a:t>Resume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AutoShape 53"/>
          <p:cNvSpPr/>
          <p:nvPr/>
        </p:nvSpPr>
        <p:spPr>
          <a:xfrm>
            <a:off x="3654360" y="2027160"/>
            <a:ext cx="2787840" cy="2352600"/>
          </a:xfrm>
          <a:prstGeom prst="rightArrow">
            <a:avLst>
              <a:gd name="adj1" fmla="val 50000"/>
              <a:gd name="adj2" fmla="val 29625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Generalmente,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es preferibl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un solo párraf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  <p:sndAc>
      <p:stSnd>
        <p:snd r:embed="rId1" name="camera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Algunos procedimientos út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524600" y="1892160"/>
            <a:ext cx="424980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Sustitución por hiperóni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1403280" y="2708280"/>
            <a:ext cx="6697800" cy="224100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270000" tIns="262800" bIns="190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montonaban en los rincones, pasillos y alacenas de la mansión sillas desvencijadas, sillones desfondados, desportilladas mesas que antaño mostraron orgullosas sus filigranas de nogal, ébano, teca, roble y otras maderas traídas de allende los mar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556640" y="5060880"/>
            <a:ext cx="3983040" cy="7038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Calibri"/>
                <a:ea typeface="Arial"/>
              </a:rPr>
              <a:t>Muebles viejos de maderas nobles se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Calibri"/>
                <a:ea typeface="Arial"/>
              </a:rPr>
              <a:t>apilaban por toda la man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2716200" y="3241800"/>
            <a:ext cx="2448000" cy="431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5292720" y="3241800"/>
            <a:ext cx="2592360" cy="431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1547640" y="3543480"/>
            <a:ext cx="2345040" cy="431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Line 9"/>
          <p:cNvSpPr/>
          <p:nvPr/>
        </p:nvSpPr>
        <p:spPr>
          <a:xfrm>
            <a:off x="3151080" y="4187880"/>
            <a:ext cx="57492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3957480" y="4187880"/>
            <a:ext cx="57492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Line 11"/>
          <p:cNvSpPr/>
          <p:nvPr/>
        </p:nvSpPr>
        <p:spPr>
          <a:xfrm>
            <a:off x="4780080" y="4187880"/>
            <a:ext cx="45864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5386320" y="4187880"/>
            <a:ext cx="51768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13" descr="Mansion"/>
          <p:cNvPicPr/>
          <p:nvPr/>
        </p:nvPicPr>
        <p:blipFill>
          <a:blip r:embed="rId1"/>
          <a:stretch/>
        </p:blipFill>
        <p:spPr>
          <a:xfrm>
            <a:off x="6300720" y="4991040"/>
            <a:ext cx="1758960" cy="114300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camera.wav"/>
      </p:stSnd>
    </p:sndAc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0.04723 0.2206 E">
                                      <p:cBhvr>
                                        <p:cTn id="29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-0.19688 0.2625 E">
                                      <p:cBhvr>
                                        <p:cTn id="294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L -0.4724 0.2625 E">
                                      <p:cBhvr>
                                        <p:cTn id="296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208 L 0.0033 0.17619 E">
                                      <p:cBhvr>
                                        <p:cTn id="30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0.00208 L -0.02639 0.17619 E">
                                      <p:cBhvr>
                                        <p:cTn id="302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19653E-006 L -0.05521 0.17665 E">
                                      <p:cBhvr>
                                        <p:cTn id="304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-0.00208 L -0.07135 0.17688 E">
                                      <p:cBhvr>
                                        <p:cTn id="306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Algunos procedimientos út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3"/>
          <p:cNvSpPr/>
          <p:nvPr/>
        </p:nvSpPr>
        <p:spPr>
          <a:xfrm rot="16200000">
            <a:off x="-334800" y="4719240"/>
            <a:ext cx="206748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Supresión de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datos y cif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1332000" y="1484280"/>
            <a:ext cx="7278480" cy="334620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270000" tIns="262800" bIns="190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STE DE LA VUELTA AL COLEG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os centros públicos no hay gastos de matrícula pero se paga comedor (entre 35 y 90 €) y transporte (entre 35 y 75 €). En los concertados, los gastos de matrícula suelen rondar los 100 € y el coste del comedor y transporte es similar al de los públicos. En cuanto a los privados, el gasto medio por mensualidad está entre los 220 y los 400 €, según las etapas escolares. El gasto de comedor se eleva a 120 € y el transporte está en torno a los 100 €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403280" y="5013360"/>
            <a:ext cx="5502240" cy="10087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Calibri"/>
                <a:ea typeface="Arial"/>
              </a:rPr>
              <a:t>El coste de la vuelta al colegio es mucho más alto en los centros privados que en los públicos y concert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6" descr="insti8"/>
          <p:cNvPicPr/>
          <p:nvPr/>
        </p:nvPicPr>
        <p:blipFill>
          <a:blip r:embed="rId1"/>
          <a:stretch/>
        </p:blipFill>
        <p:spPr>
          <a:xfrm>
            <a:off x="7209000" y="5253120"/>
            <a:ext cx="1333440" cy="1000080"/>
          </a:xfrm>
          <a:prstGeom prst="rect">
            <a:avLst/>
          </a:prstGeom>
          <a:ln w="0">
            <a:noFill/>
          </a:ln>
        </p:spPr>
      </p:pic>
    </p:spTree>
  </p:cSld>
  <p:transition>
    <p:cover dir="l"/>
    <p:sndAc>
      <p:stSnd>
        <p:snd r:embed="rId2" name="camera.wav"/>
      </p:stSnd>
    </p:sndAc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Algunos procedimientos út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476360" y="1413000"/>
            <a:ext cx="712152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Reducción o supresión de adyacentes larg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3708360" y="2276640"/>
            <a:ext cx="4916520" cy="362124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270000" tIns="262800" bIns="190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Heavy"/>
                <a:ea typeface="Arial"/>
              </a:rPr>
              <a:t>Todos estos adolescentes que, </a:t>
            </a:r>
            <a:r>
              <a:rPr b="1" lang="es-ES" sz="1800" spc="-1" strike="noStrike">
                <a:solidFill>
                  <a:srgbClr val="ff3300"/>
                </a:solidFill>
                <a:latin typeface="Franklin Gothic Heavy"/>
                <a:ea typeface="Arial"/>
              </a:rPr>
              <a:t>sor-prendidos cruelmente por su propio organismo en desarrollo con descargas hormonales insospechadas, muestran un comportamiento huraño y retraído en casa</a:t>
            </a:r>
            <a:r>
              <a:rPr b="1" lang="es-ES" sz="1800" spc="-1" strike="noStrike">
                <a:solidFill>
                  <a:srgbClr val="000000"/>
                </a:solidFill>
                <a:latin typeface="Franklin Gothic Heavy"/>
                <a:ea typeface="Arial"/>
              </a:rPr>
              <a:t>, </a:t>
            </a:r>
            <a:r>
              <a:rPr b="1" lang="es-ES" sz="1800" spc="-1" strike="noStrike">
                <a:solidFill>
                  <a:srgbClr val="6600cc"/>
                </a:solidFill>
                <a:latin typeface="Franklin Gothic Heavy"/>
                <a:ea typeface="Arial"/>
              </a:rPr>
              <a:t>son los que dibujan el retrato prototípico del adolescente que aparece en los manuales de psicologí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403280" y="5373720"/>
            <a:ext cx="744552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Los adolescentes</a:t>
            </a:r>
            <a:r>
              <a:rPr b="0" i="1" lang="es-E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i="1" lang="es-ES" sz="2400" spc="-1" strike="noStrike">
                <a:solidFill>
                  <a:srgbClr val="ff3300"/>
                </a:solidFill>
                <a:latin typeface="Calibri"/>
                <a:ea typeface="Arial"/>
              </a:rPr>
              <a:t>huraños</a:t>
            </a:r>
            <a:r>
              <a:rPr b="0" i="1" lang="es-E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i="1" lang="es-ES" sz="2400" spc="-1" strike="noStrike">
                <a:solidFill>
                  <a:srgbClr val="6600cc"/>
                </a:solidFill>
                <a:latin typeface="Calibri"/>
                <a:ea typeface="Arial"/>
              </a:rPr>
              <a:t>constituyen el arquetipo que se estudia en los manu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6" descr="Adolescent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39640" y="2133720"/>
            <a:ext cx="2146320" cy="316224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amera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47280" y="2491920"/>
            <a:ext cx="59770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cc"/>
                </a:solidFill>
                <a:latin typeface="Calibri"/>
              </a:rPr>
              <a:t>Segunda pregunta del examen de Selectivid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1979640" y="1413000"/>
            <a:ext cx="5257800" cy="1047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ema y resume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47280" y="2491920"/>
            <a:ext cx="59770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3300"/>
                </a:solidFill>
                <a:latin typeface="Calibri"/>
              </a:rPr>
              <a:t>0, 5 punt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cc"/>
                </a:solidFill>
                <a:latin typeface="Calibri"/>
              </a:rPr>
              <a:t>Primera parte de la segunda pregunta del examen de Sele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979640" y="1413000"/>
            <a:ext cx="5257800" cy="1047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em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  <p:sndAc>
      <p:stSnd>
        <p:snd r:embed="rId1" name="camera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175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El tema es el resumen del resu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568840" y="2828880"/>
            <a:ext cx="214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Berlin Sans FB Demi"/>
                <a:ea typeface="Arial"/>
              </a:rPr>
              <a:t>Mens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Berlin Sans FB Demi"/>
                <a:ea typeface="Arial"/>
              </a:rPr>
              <a:t>Intención</a:t>
            </a:r>
            <a:br>
              <a:rPr sz="3200"/>
            </a:br>
            <a:r>
              <a:rPr b="1" lang="es-ES" sz="3200" spc="-1" strike="noStrike">
                <a:solidFill>
                  <a:srgbClr val="1f497d"/>
                </a:solidFill>
                <a:latin typeface="Berlin Sans FB Demi"/>
                <a:ea typeface="Arial"/>
              </a:rPr>
              <a:t>del au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4991040" y="2039760"/>
            <a:ext cx="3238560" cy="323856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Circle">
              <a:avLst>
                <a:gd name="adj" fmla="val 1086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 Black"/>
              </a:rPr>
              <a:t>Resumen del resumen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10960" y="5821200"/>
            <a:ext cx="8744040" cy="459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Diez o quince palabras deberían ser sufici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6"/>
          <p:cNvGrpSpPr/>
          <p:nvPr/>
        </p:nvGrpSpPr>
        <p:grpSpPr>
          <a:xfrm>
            <a:off x="1808280" y="1941480"/>
            <a:ext cx="1117440" cy="1479240"/>
            <a:chOff x="1808280" y="1941480"/>
            <a:chExt cx="1117440" cy="1479240"/>
          </a:xfrm>
        </p:grpSpPr>
        <p:sp>
          <p:nvSpPr>
            <p:cNvPr id="96" name="AutoShape 7"/>
            <p:cNvSpPr/>
            <p:nvPr/>
          </p:nvSpPr>
          <p:spPr>
            <a:xfrm>
              <a:off x="1808280" y="1941480"/>
              <a:ext cx="1117440" cy="147924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7" name="Group 8"/>
            <p:cNvGrpSpPr/>
            <p:nvPr/>
          </p:nvGrpSpPr>
          <p:grpSpPr>
            <a:xfrm>
              <a:off x="2028600" y="2073240"/>
              <a:ext cx="668160" cy="1202760"/>
              <a:chOff x="2028600" y="2073240"/>
              <a:chExt cx="668160" cy="1202760"/>
            </a:xfrm>
          </p:grpSpPr>
          <p:grpSp>
            <p:nvGrpSpPr>
              <p:cNvPr id="98" name="Group 9"/>
              <p:cNvGrpSpPr/>
              <p:nvPr/>
            </p:nvGrpSpPr>
            <p:grpSpPr>
              <a:xfrm>
                <a:off x="2028600" y="2175480"/>
                <a:ext cx="668160" cy="296640"/>
                <a:chOff x="2028600" y="2175480"/>
                <a:chExt cx="668160" cy="296640"/>
              </a:xfrm>
            </p:grpSpPr>
            <p:sp>
              <p:nvSpPr>
                <p:cNvPr id="99" name="Line 10"/>
                <p:cNvSpPr/>
                <p:nvPr/>
              </p:nvSpPr>
              <p:spPr>
                <a:xfrm>
                  <a:off x="2130120" y="2175480"/>
                  <a:ext cx="566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" name="Line 11"/>
                <p:cNvSpPr/>
                <p:nvPr/>
              </p:nvSpPr>
              <p:spPr>
                <a:xfrm>
                  <a:off x="2028600" y="237240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" name="Line 12"/>
                <p:cNvSpPr/>
                <p:nvPr/>
              </p:nvSpPr>
              <p:spPr>
                <a:xfrm>
                  <a:off x="2028600" y="222408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" name="Line 13"/>
                <p:cNvSpPr/>
                <p:nvPr/>
              </p:nvSpPr>
              <p:spPr>
                <a:xfrm>
                  <a:off x="2028600" y="227304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>
                  <a:off x="2028600" y="242136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4" name="Line 15"/>
                <p:cNvSpPr/>
                <p:nvPr/>
              </p:nvSpPr>
              <p:spPr>
                <a:xfrm>
                  <a:off x="2028600" y="232344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5" name="Line 16"/>
                <p:cNvSpPr/>
                <p:nvPr/>
              </p:nvSpPr>
              <p:spPr>
                <a:xfrm>
                  <a:off x="2028600" y="2472120"/>
                  <a:ext cx="52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6" name="Group 17"/>
              <p:cNvGrpSpPr/>
              <p:nvPr/>
            </p:nvGrpSpPr>
            <p:grpSpPr>
              <a:xfrm>
                <a:off x="2028600" y="2602440"/>
                <a:ext cx="668160" cy="246240"/>
                <a:chOff x="2028600" y="2602440"/>
                <a:chExt cx="668160" cy="246240"/>
              </a:xfrm>
            </p:grpSpPr>
            <p:sp>
              <p:nvSpPr>
                <p:cNvPr id="107" name="Line 18"/>
                <p:cNvSpPr/>
                <p:nvPr/>
              </p:nvSpPr>
              <p:spPr>
                <a:xfrm>
                  <a:off x="2130120" y="2602440"/>
                  <a:ext cx="566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Line 19"/>
                <p:cNvSpPr/>
                <p:nvPr/>
              </p:nvSpPr>
              <p:spPr>
                <a:xfrm>
                  <a:off x="2028600" y="265104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Line 20"/>
                <p:cNvSpPr/>
                <p:nvPr/>
              </p:nvSpPr>
              <p:spPr>
                <a:xfrm>
                  <a:off x="2028600" y="270000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" name="Line 21"/>
                <p:cNvSpPr/>
                <p:nvPr/>
              </p:nvSpPr>
              <p:spPr>
                <a:xfrm>
                  <a:off x="2028600" y="279792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" name="Line 22"/>
                <p:cNvSpPr/>
                <p:nvPr/>
              </p:nvSpPr>
              <p:spPr>
                <a:xfrm>
                  <a:off x="2028600" y="275040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2" name="Line 23"/>
                <p:cNvSpPr/>
                <p:nvPr/>
              </p:nvSpPr>
              <p:spPr>
                <a:xfrm>
                  <a:off x="2028600" y="28486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3" name="Group 24"/>
              <p:cNvGrpSpPr/>
              <p:nvPr/>
            </p:nvGrpSpPr>
            <p:grpSpPr>
              <a:xfrm>
                <a:off x="2028600" y="2979360"/>
                <a:ext cx="668160" cy="296640"/>
                <a:chOff x="2028600" y="2979360"/>
                <a:chExt cx="668160" cy="296640"/>
              </a:xfrm>
            </p:grpSpPr>
            <p:sp>
              <p:nvSpPr>
                <p:cNvPr id="114" name="Line 25"/>
                <p:cNvSpPr/>
                <p:nvPr/>
              </p:nvSpPr>
              <p:spPr>
                <a:xfrm>
                  <a:off x="2130120" y="2979360"/>
                  <a:ext cx="566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Line 26"/>
                <p:cNvSpPr/>
                <p:nvPr/>
              </p:nvSpPr>
              <p:spPr>
                <a:xfrm>
                  <a:off x="2028600" y="317628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Line 27"/>
                <p:cNvSpPr/>
                <p:nvPr/>
              </p:nvSpPr>
              <p:spPr>
                <a:xfrm>
                  <a:off x="2028600" y="302796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Line 28"/>
                <p:cNvSpPr/>
                <p:nvPr/>
              </p:nvSpPr>
              <p:spPr>
                <a:xfrm>
                  <a:off x="2028600" y="307692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Line 29"/>
                <p:cNvSpPr/>
                <p:nvPr/>
              </p:nvSpPr>
              <p:spPr>
                <a:xfrm>
                  <a:off x="2028600" y="322524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Line 30"/>
                <p:cNvSpPr/>
                <p:nvPr/>
              </p:nvSpPr>
              <p:spPr>
                <a:xfrm>
                  <a:off x="2028600" y="312732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Line 31"/>
                <p:cNvSpPr/>
                <p:nvPr/>
              </p:nvSpPr>
              <p:spPr>
                <a:xfrm>
                  <a:off x="2028600" y="3276000"/>
                  <a:ext cx="52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1" name="Line 32"/>
              <p:cNvSpPr/>
              <p:nvPr/>
            </p:nvSpPr>
            <p:spPr>
              <a:xfrm>
                <a:off x="2028600" y="20732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2" name="Group 33"/>
          <p:cNvGrpSpPr/>
          <p:nvPr/>
        </p:nvGrpSpPr>
        <p:grpSpPr>
          <a:xfrm>
            <a:off x="2257560" y="2766960"/>
            <a:ext cx="1117440" cy="1479600"/>
            <a:chOff x="2257560" y="2766960"/>
            <a:chExt cx="1117440" cy="1479600"/>
          </a:xfrm>
        </p:grpSpPr>
        <p:sp>
          <p:nvSpPr>
            <p:cNvPr id="123" name="AutoShape 34"/>
            <p:cNvSpPr/>
            <p:nvPr/>
          </p:nvSpPr>
          <p:spPr>
            <a:xfrm>
              <a:off x="2257560" y="2766960"/>
              <a:ext cx="1117440" cy="147960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4" name="Group 35"/>
            <p:cNvGrpSpPr/>
            <p:nvPr/>
          </p:nvGrpSpPr>
          <p:grpSpPr>
            <a:xfrm>
              <a:off x="2478240" y="3000240"/>
              <a:ext cx="668160" cy="297000"/>
              <a:chOff x="2478240" y="3000240"/>
              <a:chExt cx="668160" cy="297000"/>
            </a:xfrm>
          </p:grpSpPr>
          <p:sp>
            <p:nvSpPr>
              <p:cNvPr id="125" name="Line 36"/>
              <p:cNvSpPr/>
              <p:nvPr/>
            </p:nvSpPr>
            <p:spPr>
              <a:xfrm>
                <a:off x="2579760" y="3000240"/>
                <a:ext cx="56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Line 37"/>
              <p:cNvSpPr/>
              <p:nvPr/>
            </p:nvSpPr>
            <p:spPr>
              <a:xfrm>
                <a:off x="2478240" y="3197520"/>
                <a:ext cx="66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Line 38"/>
              <p:cNvSpPr/>
              <p:nvPr/>
            </p:nvSpPr>
            <p:spPr>
              <a:xfrm>
                <a:off x="2478240" y="3048840"/>
                <a:ext cx="66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Line 39"/>
              <p:cNvSpPr/>
              <p:nvPr/>
            </p:nvSpPr>
            <p:spPr>
              <a:xfrm>
                <a:off x="2478240" y="3097800"/>
                <a:ext cx="66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Line 40"/>
              <p:cNvSpPr/>
              <p:nvPr/>
            </p:nvSpPr>
            <p:spPr>
              <a:xfrm>
                <a:off x="2478240" y="3246480"/>
                <a:ext cx="66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Line 41"/>
              <p:cNvSpPr/>
              <p:nvPr/>
            </p:nvSpPr>
            <p:spPr>
              <a:xfrm>
                <a:off x="2478240" y="3148560"/>
                <a:ext cx="66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Line 42"/>
              <p:cNvSpPr/>
              <p:nvPr/>
            </p:nvSpPr>
            <p:spPr>
              <a:xfrm>
                <a:off x="2478240" y="3297240"/>
                <a:ext cx="52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2" name="Line 43"/>
            <p:cNvSpPr/>
            <p:nvPr/>
          </p:nvSpPr>
          <p:spPr>
            <a:xfrm>
              <a:off x="2478240" y="2898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Group 44"/>
          <p:cNvGrpSpPr/>
          <p:nvPr/>
        </p:nvGrpSpPr>
        <p:grpSpPr>
          <a:xfrm>
            <a:off x="2705040" y="3592440"/>
            <a:ext cx="1117800" cy="1479600"/>
            <a:chOff x="2705040" y="3592440"/>
            <a:chExt cx="1117800" cy="1479600"/>
          </a:xfrm>
        </p:grpSpPr>
        <p:sp>
          <p:nvSpPr>
            <p:cNvPr id="134" name="AutoShape 45"/>
            <p:cNvSpPr/>
            <p:nvPr/>
          </p:nvSpPr>
          <p:spPr>
            <a:xfrm>
              <a:off x="2705040" y="3592440"/>
              <a:ext cx="1117800" cy="147960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Line 46"/>
            <p:cNvSpPr/>
            <p:nvPr/>
          </p:nvSpPr>
          <p:spPr>
            <a:xfrm>
              <a:off x="3027240" y="3825720"/>
              <a:ext cx="56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Line 47"/>
            <p:cNvSpPr/>
            <p:nvPr/>
          </p:nvSpPr>
          <p:spPr>
            <a:xfrm>
              <a:off x="2925720" y="3885840"/>
              <a:ext cx="66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Line 48"/>
            <p:cNvSpPr/>
            <p:nvPr/>
          </p:nvSpPr>
          <p:spPr>
            <a:xfrm>
              <a:off x="2925720" y="3724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 Box 49"/>
          <p:cNvSpPr/>
          <p:nvPr/>
        </p:nvSpPr>
        <p:spPr>
          <a:xfrm>
            <a:off x="662040" y="3279600"/>
            <a:ext cx="124596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Verdana"/>
                <a:ea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1137240" y="4114800"/>
            <a:ext cx="118800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Verdana"/>
                <a:ea typeface="Arial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1576440" y="4948200"/>
            <a:ext cx="12398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Verdana"/>
                <a:ea typeface="Arial"/>
              </a:rPr>
              <a:t>Te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  <p:sndAc>
      <p:stSnd>
        <p:snd r:embed="rId1" name="camera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92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192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192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192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92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192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192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192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92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192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192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192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9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500"/>
                            </p:stCondLst>
                            <p:childTnLst>
                              <p:par>
                                <p:cTn id="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El tema es distinto del asu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ASUN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ndica de qué trata un tex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jempl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3300"/>
                </a:solidFill>
                <a:latin typeface="Calibri"/>
              </a:rPr>
              <a:t>“</a:t>
            </a:r>
            <a:r>
              <a:rPr b="0" lang="es-ES" sz="2200" spc="-1" strike="noStrike">
                <a:solidFill>
                  <a:srgbClr val="ff3300"/>
                </a:solidFill>
                <a:latin typeface="Calibri"/>
              </a:rPr>
              <a:t>La adolescencia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TE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ndica de qué trata un texto, pero incorporando además la postura o tesis del autor a propósito del asun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jemplo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3300"/>
                </a:solidFill>
                <a:latin typeface="Calibri"/>
              </a:rPr>
              <a:t>“</a:t>
            </a:r>
            <a:r>
              <a:rPr b="0" lang="es-ES" sz="2200" spc="-1" strike="noStrike">
                <a:solidFill>
                  <a:srgbClr val="ff3300"/>
                </a:solidFill>
                <a:latin typeface="Calibri"/>
              </a:rPr>
              <a:t>Dificultades de relación generacional en la adolescencia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¿Cómo debe ser el tem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Calibri"/>
              </a:rPr>
              <a:t>Breve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una sola frase que recoja la idea fundamental y la intención del au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Calibri"/>
              </a:rPr>
              <a:t>Preci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Calibri"/>
              </a:rPr>
              <a:t>General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: se recomienda una frase nominal cuyo núcleo sea un sustantivo abstracto precisado por compleme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Ejemplos de te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 desmotivación por el estudio en la juvent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 necesidad de una ley contra el ruid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 crisis económica de la actuali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efecto de la droga en la juvent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 importancia de los valores cívicos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8" descr="rui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52960" y="2141640"/>
            <a:ext cx="1428840" cy="1104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4" descr="inversiones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414972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7" descr="sosemergencias_solidarios-y-cooperantes1"/>
          <p:cNvPicPr/>
          <p:nvPr/>
        </p:nvPicPr>
        <p:blipFill>
          <a:blip r:embed="rId5"/>
          <a:stretch/>
        </p:blipFill>
        <p:spPr>
          <a:xfrm>
            <a:off x="7380360" y="8366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0" descr="aburrida"/>
          <p:cNvPicPr/>
          <p:nvPr/>
        </p:nvPicPr>
        <p:blipFill>
          <a:blip r:embed="rId6"/>
          <a:stretch/>
        </p:blipFill>
        <p:spPr>
          <a:xfrm>
            <a:off x="4500720" y="4365720"/>
            <a:ext cx="120780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76000" y="292428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3300"/>
                </a:solidFill>
                <a:latin typeface="Calibri"/>
              </a:rPr>
              <a:t>1 pun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10253f"/>
                </a:solidFill>
                <a:latin typeface="Calibri"/>
              </a:rPr>
              <a:t>Segunda parte de la segunda pregunta del examen de Selectivid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1979640" y="1413000"/>
            <a:ext cx="5257800" cy="1047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sume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  <p:sndAc>
      <p:stSnd>
        <p:snd r:embed="rId1" name="camera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95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0253f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32523"/>
                </a:solidFill>
                <a:latin typeface="Calibri"/>
              </a:rPr>
              <a:t>El resumen es la reformulación sintética del contenid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19:11:15Z</dcterms:created>
  <dc:creator>Usuario</dc:creator>
  <dc:description/>
  <dc:language>en-US</dc:language>
  <cp:lastModifiedBy>Usuario</cp:lastModifiedBy>
  <dcterms:modified xsi:type="dcterms:W3CDTF">2013-10-27T19:21:11Z</dcterms:modified>
  <cp:revision>1</cp:revision>
  <dc:subject/>
  <dc:title>Comentario crítico de las pruebas de Selectividad</dc:title>
</cp:coreProperties>
</file>